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16F6-D32F-4823-A6B7-A7660F84C09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A1B-1362-4D23-88E6-A3ADD076A1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29E-F743-4BFE-A8B7-75C1B98C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CA6-E867-4BEA-BE30-9515F58B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23F-7A99-4C6B-98DC-DD603799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7EE-8EDD-40FF-9D78-3BBDFC31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3FC-4BBB-49F0-AD30-3A636A74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103-3F0C-4D88-8105-ACD0613F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1CF-9A80-4F1D-8BF6-83097007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24C-1596-4EE1-BDAD-1CBD4F26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6F7-A3F1-4ED1-A8A1-F64427B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95D-3922-47BF-9AC4-75FA0B92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D7D-9D12-474D-A62B-89E91E21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A76-D1EE-4B81-9A51-9D421E8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2E86-A36C-4855-95EB-BEF61D19D5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Conteúdo 2"/>
          <p:cNvSpPr/>
          <p:nvPr/>
        </p:nvSpPr>
        <p:spPr>
          <a:xfrm>
            <a:off x="1582560" y="4541760"/>
            <a:ext cx="2470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aixaDeTexto 24"/>
          <p:cNvSpPr/>
          <p:nvPr/>
        </p:nvSpPr>
        <p:spPr>
          <a:xfrm>
            <a:off x="1403280" y="1785960"/>
            <a:ext cx="870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Montserrat"/>
                <a:ea typeface="Arial"/>
              </a:rPr>
              <a:t>NLLC – NOVA LEI DE LICITAÇÕES E CONTRATOS: ETP e Termo de Referê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Espaço Reservado para Conteúdo 2"/>
          <p:cNvSpPr/>
          <p:nvPr/>
        </p:nvSpPr>
        <p:spPr>
          <a:xfrm>
            <a:off x="4133880" y="4586400"/>
            <a:ext cx="1968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Conteúdo 2"/>
          <p:cNvSpPr/>
          <p:nvPr/>
        </p:nvSpPr>
        <p:spPr>
          <a:xfrm>
            <a:off x="6186600" y="4572000"/>
            <a:ext cx="17668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ço Reservado para Conteúdo 2"/>
          <p:cNvSpPr/>
          <p:nvPr/>
        </p:nvSpPr>
        <p:spPr>
          <a:xfrm>
            <a:off x="8109000" y="4541760"/>
            <a:ext cx="27144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m 1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8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Termo de Referência na NLL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ixaDeTexto 13"/>
          <p:cNvSpPr/>
          <p:nvPr/>
        </p:nvSpPr>
        <p:spPr>
          <a:xfrm>
            <a:off x="0" y="909720"/>
            <a:ext cx="81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Termo de Referência é o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documento da fase preparatória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, no qual constará a </a:t>
            </a:r>
            <a:r>
              <a:rPr b="1" lang="pt-BR" sz="1600" spc="-1" strike="noStrike">
                <a:solidFill>
                  <a:srgbClr val="c00000"/>
                </a:solidFill>
                <a:latin typeface="Montserrat"/>
              </a:rPr>
              <a:t>indicação do objeto de forma precisa, suficiente e clar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  <p:grpSp>
        <p:nvGrpSpPr>
          <p:cNvPr id="57" name="Retângulo: Cantos Arredondados 75"/>
          <p:cNvGrpSpPr/>
          <p:nvPr/>
        </p:nvGrpSpPr>
        <p:grpSpPr>
          <a:xfrm>
            <a:off x="249120" y="2494080"/>
            <a:ext cx="3646440" cy="583920"/>
            <a:chOff x="249120" y="2494080"/>
            <a:chExt cx="3646440" cy="583920"/>
          </a:xfrm>
        </p:grpSpPr>
        <p:pic>
          <p:nvPicPr>
            <p:cNvPr id="58" name="Retângulo: Cantos Arredondados 75" descr=""/>
            <p:cNvPicPr/>
            <p:nvPr/>
          </p:nvPicPr>
          <p:blipFill>
            <a:blip r:embed="rId2"/>
            <a:stretch/>
          </p:blipFill>
          <p:spPr>
            <a:xfrm>
              <a:off x="249120" y="2494080"/>
              <a:ext cx="364644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01680" y="254628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Definição Objet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Retângulo: Cantos Arredondados 76"/>
          <p:cNvGrpSpPr/>
          <p:nvPr/>
        </p:nvGrpSpPr>
        <p:grpSpPr>
          <a:xfrm>
            <a:off x="249120" y="3260880"/>
            <a:ext cx="3646440" cy="579240"/>
            <a:chOff x="249120" y="3260880"/>
            <a:chExt cx="3646440" cy="579240"/>
          </a:xfrm>
        </p:grpSpPr>
        <p:pic>
          <p:nvPicPr>
            <p:cNvPr id="61" name="Retângulo: Cantos Arredondados 76" descr=""/>
            <p:cNvPicPr/>
            <p:nvPr/>
          </p:nvPicPr>
          <p:blipFill>
            <a:blip r:embed="rId3"/>
            <a:stretch/>
          </p:blipFill>
          <p:spPr>
            <a:xfrm>
              <a:off x="249120" y="3260880"/>
              <a:ext cx="36464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01680" y="3311640"/>
              <a:ext cx="3546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Fundamentação da Contrataçã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Retângulo: Cantos Arredondados 77"/>
          <p:cNvGrpSpPr/>
          <p:nvPr/>
        </p:nvGrpSpPr>
        <p:grpSpPr>
          <a:xfrm>
            <a:off x="249120" y="4022640"/>
            <a:ext cx="3646440" cy="585720"/>
            <a:chOff x="249120" y="4022640"/>
            <a:chExt cx="3646440" cy="585720"/>
          </a:xfrm>
        </p:grpSpPr>
        <p:pic>
          <p:nvPicPr>
            <p:cNvPr id="64" name="Retângulo: Cantos Arredondados 77" descr=""/>
            <p:cNvPicPr/>
            <p:nvPr/>
          </p:nvPicPr>
          <p:blipFill>
            <a:blip r:embed="rId4"/>
            <a:stretch/>
          </p:blipFill>
          <p:spPr>
            <a:xfrm>
              <a:off x="249120" y="4022640"/>
              <a:ext cx="36464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01680" y="4076640"/>
              <a:ext cx="3546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Descrição da Soluçã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tângulo: Cantos Arredondados 78"/>
          <p:cNvGrpSpPr/>
          <p:nvPr/>
        </p:nvGrpSpPr>
        <p:grpSpPr>
          <a:xfrm>
            <a:off x="249120" y="4791240"/>
            <a:ext cx="3646440" cy="579240"/>
            <a:chOff x="249120" y="4791240"/>
            <a:chExt cx="3646440" cy="579240"/>
          </a:xfrm>
        </p:grpSpPr>
        <p:pic>
          <p:nvPicPr>
            <p:cNvPr id="67" name="Retângulo: Cantos Arredondados 78" descr=""/>
            <p:cNvPicPr/>
            <p:nvPr/>
          </p:nvPicPr>
          <p:blipFill>
            <a:blip r:embed="rId5"/>
            <a:stretch/>
          </p:blipFill>
          <p:spPr>
            <a:xfrm>
              <a:off x="249120" y="4791240"/>
              <a:ext cx="36464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1680" y="484020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Requisitos da Contrataçã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tângulo: Cantos Arredondados 79"/>
          <p:cNvGrpSpPr/>
          <p:nvPr/>
        </p:nvGrpSpPr>
        <p:grpSpPr>
          <a:xfrm>
            <a:off x="249120" y="5553000"/>
            <a:ext cx="3646440" cy="585720"/>
            <a:chOff x="249120" y="5553000"/>
            <a:chExt cx="3646440" cy="585720"/>
          </a:xfrm>
        </p:grpSpPr>
        <p:pic>
          <p:nvPicPr>
            <p:cNvPr id="70" name="Retângulo: Cantos Arredondados 79" descr=""/>
            <p:cNvPicPr/>
            <p:nvPr/>
          </p:nvPicPr>
          <p:blipFill>
            <a:blip r:embed="rId6"/>
            <a:stretch/>
          </p:blipFill>
          <p:spPr>
            <a:xfrm>
              <a:off x="249120" y="5553000"/>
              <a:ext cx="36464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1680" y="560376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Modelo de Execuçã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tângulo: Cantos Arredondados 85"/>
          <p:cNvGrpSpPr/>
          <p:nvPr/>
        </p:nvGrpSpPr>
        <p:grpSpPr>
          <a:xfrm>
            <a:off x="4145040" y="2487600"/>
            <a:ext cx="3646440" cy="584280"/>
            <a:chOff x="4145040" y="2487600"/>
            <a:chExt cx="3646440" cy="584280"/>
          </a:xfrm>
        </p:grpSpPr>
        <p:pic>
          <p:nvPicPr>
            <p:cNvPr id="73" name="Retângulo: Cantos Arredondados 85" descr=""/>
            <p:cNvPicPr/>
            <p:nvPr/>
          </p:nvPicPr>
          <p:blipFill>
            <a:blip r:embed="rId7"/>
            <a:stretch/>
          </p:blipFill>
          <p:spPr>
            <a:xfrm>
              <a:off x="4145040" y="2487600"/>
              <a:ext cx="36464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199040" y="2540160"/>
              <a:ext cx="3546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Modelo de Gestão de Contrat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tângulo: Cantos Arredondados 86"/>
          <p:cNvGrpSpPr/>
          <p:nvPr/>
        </p:nvGrpSpPr>
        <p:grpSpPr>
          <a:xfrm>
            <a:off x="4145040" y="3255840"/>
            <a:ext cx="3646440" cy="584280"/>
            <a:chOff x="4145040" y="3255840"/>
            <a:chExt cx="3646440" cy="584280"/>
          </a:xfrm>
        </p:grpSpPr>
        <p:pic>
          <p:nvPicPr>
            <p:cNvPr id="76" name="Retângulo: Cantos Arredondados 86" descr=""/>
            <p:cNvPicPr/>
            <p:nvPr/>
          </p:nvPicPr>
          <p:blipFill>
            <a:blip r:embed="rId8"/>
            <a:stretch/>
          </p:blipFill>
          <p:spPr>
            <a:xfrm>
              <a:off x="4145040" y="3255840"/>
              <a:ext cx="36464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199040" y="330516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Critérios de Medição e Pagament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tângulo: Cantos Arredondados 87"/>
          <p:cNvGrpSpPr/>
          <p:nvPr/>
        </p:nvGrpSpPr>
        <p:grpSpPr>
          <a:xfrm>
            <a:off x="4151160" y="4022640"/>
            <a:ext cx="3633840" cy="585720"/>
            <a:chOff x="4151160" y="4022640"/>
            <a:chExt cx="3633840" cy="585720"/>
          </a:xfrm>
        </p:grpSpPr>
        <p:pic>
          <p:nvPicPr>
            <p:cNvPr id="79" name="Retângulo: Cantos Arredondados 87" descr=""/>
            <p:cNvPicPr/>
            <p:nvPr/>
          </p:nvPicPr>
          <p:blipFill>
            <a:blip r:embed="rId9"/>
            <a:stretch/>
          </p:blipFill>
          <p:spPr>
            <a:xfrm>
              <a:off x="4151160" y="4022640"/>
              <a:ext cx="36338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199040" y="4076640"/>
              <a:ext cx="3546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Forma e Critério de Seleção do forneced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tângulo: Cantos Arredondados 88"/>
          <p:cNvGrpSpPr/>
          <p:nvPr/>
        </p:nvGrpSpPr>
        <p:grpSpPr>
          <a:xfrm>
            <a:off x="4151160" y="4797360"/>
            <a:ext cx="3633840" cy="579600"/>
            <a:chOff x="4151160" y="4797360"/>
            <a:chExt cx="3633840" cy="579600"/>
          </a:xfrm>
        </p:grpSpPr>
        <p:pic>
          <p:nvPicPr>
            <p:cNvPr id="82" name="Retângulo: Cantos Arredondados 88" descr=""/>
            <p:cNvPicPr/>
            <p:nvPr/>
          </p:nvPicPr>
          <p:blipFill>
            <a:blip r:embed="rId10"/>
            <a:stretch/>
          </p:blipFill>
          <p:spPr>
            <a:xfrm>
              <a:off x="4151160" y="4797360"/>
              <a:ext cx="3633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199040" y="484668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Estimativa do Valor da Contrataçã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tângulo: Cantos Arredondados 89"/>
          <p:cNvGrpSpPr/>
          <p:nvPr/>
        </p:nvGrpSpPr>
        <p:grpSpPr>
          <a:xfrm>
            <a:off x="4151160" y="5553000"/>
            <a:ext cx="3633840" cy="585720"/>
            <a:chOff x="4151160" y="5553000"/>
            <a:chExt cx="3633840" cy="585720"/>
          </a:xfrm>
        </p:grpSpPr>
        <p:pic>
          <p:nvPicPr>
            <p:cNvPr id="85" name="Retângulo: Cantos Arredondados 89" descr=""/>
            <p:cNvPicPr/>
            <p:nvPr/>
          </p:nvPicPr>
          <p:blipFill>
            <a:blip r:embed="rId11"/>
            <a:stretch/>
          </p:blipFill>
          <p:spPr>
            <a:xfrm>
              <a:off x="4151160" y="5553000"/>
              <a:ext cx="36338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199040" y="5603760"/>
              <a:ext cx="35463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Adequação Orçamentári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CaixaDeTexto 4"/>
          <p:cNvSpPr/>
          <p:nvPr/>
        </p:nvSpPr>
        <p:spPr>
          <a:xfrm>
            <a:off x="430200" y="1525680"/>
            <a:ext cx="67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De acordo com  a NLLC,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é o documento necessário para contratação de bens e serviços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(inciso XXIII, art. 6º) – que conterá as seguintes informaçõ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5"/>
          <p:cNvSpPr/>
          <p:nvPr/>
        </p:nvSpPr>
        <p:spPr>
          <a:xfrm>
            <a:off x="7967520" y="1487520"/>
            <a:ext cx="388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Para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compras, o TR ainda deve conter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 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§ 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1º, art. 40)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Retângulo: Cantos Arredondados 6"/>
          <p:cNvGrpSpPr/>
          <p:nvPr/>
        </p:nvGrpSpPr>
        <p:grpSpPr>
          <a:xfrm>
            <a:off x="8229600" y="2494080"/>
            <a:ext cx="3638520" cy="583920"/>
            <a:chOff x="8229600" y="2494080"/>
            <a:chExt cx="3638520" cy="583920"/>
          </a:xfrm>
        </p:grpSpPr>
        <p:pic>
          <p:nvPicPr>
            <p:cNvPr id="90" name="Retângulo: Cantos Arredondados 6" descr=""/>
            <p:cNvPicPr/>
            <p:nvPr/>
          </p:nvPicPr>
          <p:blipFill>
            <a:blip r:embed="rId12"/>
            <a:stretch/>
          </p:blipFill>
          <p:spPr>
            <a:xfrm>
              <a:off x="8229600" y="2494080"/>
              <a:ext cx="36385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77120" y="2546280"/>
              <a:ext cx="35481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Especificação do produt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Retângulo: Cantos Arredondados 7"/>
          <p:cNvGrpSpPr/>
          <p:nvPr/>
        </p:nvGrpSpPr>
        <p:grpSpPr>
          <a:xfrm>
            <a:off x="8229600" y="3382920"/>
            <a:ext cx="3638520" cy="579600"/>
            <a:chOff x="8229600" y="3382920"/>
            <a:chExt cx="3638520" cy="579600"/>
          </a:xfrm>
        </p:grpSpPr>
        <p:pic>
          <p:nvPicPr>
            <p:cNvPr id="93" name="Retângulo: Cantos Arredondados 7" descr=""/>
            <p:cNvPicPr/>
            <p:nvPr/>
          </p:nvPicPr>
          <p:blipFill>
            <a:blip r:embed="rId13"/>
            <a:stretch/>
          </p:blipFill>
          <p:spPr>
            <a:xfrm>
              <a:off x="8229600" y="3382920"/>
              <a:ext cx="3638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277120" y="3432240"/>
              <a:ext cx="35481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Indicação de locais de entrega e regras de recebimento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Retângulo: Cantos Arredondados 10"/>
          <p:cNvGrpSpPr/>
          <p:nvPr/>
        </p:nvGrpSpPr>
        <p:grpSpPr>
          <a:xfrm>
            <a:off x="8229600" y="4286160"/>
            <a:ext cx="3638520" cy="889200"/>
            <a:chOff x="8229600" y="4286160"/>
            <a:chExt cx="3638520" cy="889200"/>
          </a:xfrm>
        </p:grpSpPr>
        <p:pic>
          <p:nvPicPr>
            <p:cNvPr id="96" name="Retângulo: Cantos Arredondados 10" descr=""/>
            <p:cNvPicPr/>
            <p:nvPr/>
          </p:nvPicPr>
          <p:blipFill>
            <a:blip r:embed="rId14"/>
            <a:stretch/>
          </p:blipFill>
          <p:spPr>
            <a:xfrm>
              <a:off x="8229600" y="4286160"/>
              <a:ext cx="36385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292960" y="4349880"/>
              <a:ext cx="3516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" rIns="10080" tIns="10080" bIns="100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ontserrat"/>
                </a:rPr>
                <a:t>Especificação da garantia e condições de manutenção/assistênci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Conector reto 14"/>
          <p:cNvSpPr/>
          <p:nvPr/>
        </p:nvSpPr>
        <p:spPr>
          <a:xfrm>
            <a:off x="7967520" y="2357280"/>
            <a:ext cx="0" cy="389412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ector reto 16"/>
          <p:cNvSpPr/>
          <p:nvPr/>
        </p:nvSpPr>
        <p:spPr>
          <a:xfrm>
            <a:off x="0" y="660240"/>
            <a:ext cx="1232388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aixaDeTexto 13"/>
          <p:cNvSpPr/>
          <p:nvPr/>
        </p:nvSpPr>
        <p:spPr>
          <a:xfrm>
            <a:off x="6259680" y="1287360"/>
            <a:ext cx="50320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Projeto Básico (inciso XXV, art.6º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Principal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documento de planejamento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da licitação e contrataçã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Define e dimensiona a </a:t>
            </a:r>
            <a:r>
              <a:rPr b="1" lang="pt-BR" sz="1600" spc="-1" strike="noStrike">
                <a:solidFill>
                  <a:srgbClr val="c00000"/>
                </a:solidFill>
                <a:latin typeface="Montserrat"/>
              </a:rPr>
              <a:t>obra ou o serviço, ou o  complexo de obras ou de serviços (especiais)</a:t>
            </a:r>
            <a:r>
              <a:rPr b="0" lang="pt-BR" sz="1600" spc="-1" strike="noStrike">
                <a:solidFill>
                  <a:srgbClr val="c00000"/>
                </a:solidFill>
                <a:latin typeface="Montserra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Assegura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a viabilidade técnica e o adequado tratamento do impacto ambiental do empreendimento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Possibilita a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avaliação do custo da obra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, bem como definição dos métodos e prazo de execuçã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28280" y="5897520"/>
            <a:ext cx="681120" cy="96048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4"/>
          <p:cNvSpPr/>
          <p:nvPr/>
        </p:nvSpPr>
        <p:spPr>
          <a:xfrm>
            <a:off x="652320" y="1289160"/>
            <a:ext cx="5032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Termo de Referência (inciso XXIII, art. 6º)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Principal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documento de planejamento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da licitação e contrataçã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Necessário para contratação </a:t>
            </a:r>
            <a:r>
              <a:rPr b="1" lang="pt-BR" sz="1600" spc="-1" strike="noStrike">
                <a:solidFill>
                  <a:srgbClr val="c00000"/>
                </a:solidFill>
                <a:latin typeface="Montserrat"/>
              </a:rPr>
              <a:t>de bens e serviços</a:t>
            </a:r>
            <a:r>
              <a:rPr b="0" lang="pt-BR" sz="1600" spc="-1" strike="noStrike">
                <a:solidFill>
                  <a:srgbClr val="c00000"/>
                </a:solidFill>
                <a:latin typeface="Montserrat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m 7" descr="Logotipo&#10;&#10;Descrição gerada automaticamente"/>
          <p:cNvPicPr/>
          <p:nvPr/>
        </p:nvPicPr>
        <p:blipFill>
          <a:blip r:embed="rId2"/>
          <a:stretch/>
        </p:blipFill>
        <p:spPr>
          <a:xfrm>
            <a:off x="1255680" y="3633840"/>
            <a:ext cx="1941480" cy="194148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7" descr="Logotipo&#10;&#10;Descrição gerada automaticamente"/>
          <p:cNvPicPr/>
          <p:nvPr/>
        </p:nvPicPr>
        <p:blipFill>
          <a:blip r:embed="rId3"/>
          <a:stretch/>
        </p:blipFill>
        <p:spPr>
          <a:xfrm>
            <a:off x="3692520" y="3633840"/>
            <a:ext cx="1941480" cy="1941480"/>
          </a:xfrm>
          <a:prstGeom prst="rect">
            <a:avLst/>
          </a:prstGeom>
          <a:ln w="0">
            <a:noFill/>
          </a:ln>
        </p:spPr>
      </p:pic>
      <p:pic>
        <p:nvPicPr>
          <p:cNvPr id="105" name="Imagem 10" descr="Ícone&#10;&#10;Descrição gerada automaticamente"/>
          <p:cNvPicPr/>
          <p:nvPr/>
        </p:nvPicPr>
        <p:blipFill>
          <a:blip r:embed="rId4"/>
          <a:stretch/>
        </p:blipFill>
        <p:spPr>
          <a:xfrm>
            <a:off x="3046320" y="4275000"/>
            <a:ext cx="646200" cy="64800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2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Termo de Referência X Projeto Bás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ector reto 10"/>
          <p:cNvSpPr/>
          <p:nvPr/>
        </p:nvSpPr>
        <p:spPr>
          <a:xfrm>
            <a:off x="0" y="673200"/>
            <a:ext cx="1219212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4"/>
          <p:cNvSpPr/>
          <p:nvPr/>
        </p:nvSpPr>
        <p:spPr>
          <a:xfrm>
            <a:off x="550800" y="1200240"/>
            <a:ext cx="754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O Estudo Técnico Preliminar - ETP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é o documento que auxiliará a etapa de planejamento da contratação,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caracterizando o interesse público e sua melhor solução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2"/>
          <p:cNvSpPr/>
          <p:nvPr/>
        </p:nvSpPr>
        <p:spPr>
          <a:xfrm>
            <a:off x="8126280" y="2038320"/>
            <a:ext cx="3436920" cy="374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ixaDeTexto 9"/>
          <p:cNvSpPr/>
          <p:nvPr/>
        </p:nvSpPr>
        <p:spPr>
          <a:xfrm>
            <a:off x="552600" y="4584600"/>
            <a:ext cx="1118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Montserrat"/>
              </a:rPr>
              <a:t>*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No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ETP,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o foco e toda a construção do documento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estará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 em torno da necessidade ou problema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da Administração, enquanto o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TR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estará focado em </a:t>
            </a:r>
            <a:r>
              <a:rPr b="1" lang="pt-BR" sz="1600" spc="-1" strike="noStrike">
                <a:solidFill>
                  <a:srgbClr val="000000"/>
                </a:solidFill>
                <a:latin typeface="Montserrat"/>
              </a:rPr>
              <a:t>descrever o objeto a ser contratado </a:t>
            </a:r>
            <a:r>
              <a:rPr b="0" lang="pt-BR" sz="1600" spc="-1" strike="noStrike">
                <a:solidFill>
                  <a:srgbClr val="000000"/>
                </a:solidFill>
                <a:latin typeface="Montserrat"/>
              </a:rPr>
              <a:t>(identificado no ETP como a melhor solução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ço Reservado para Conteúdo 11" descr="Seta: curva no sentido horário estrutura de tópicos"/>
          <p:cNvPicPr/>
          <p:nvPr/>
        </p:nvPicPr>
        <p:blipFill>
          <a:blip r:embed="rId2"/>
          <a:stretch/>
        </p:blipFill>
        <p:spPr>
          <a:xfrm>
            <a:off x="3801960" y="268128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15" descr=""/>
          <p:cNvPicPr/>
          <p:nvPr/>
        </p:nvPicPr>
        <p:blipFill>
          <a:blip r:embed="rId3"/>
          <a:stretch/>
        </p:blipFill>
        <p:spPr>
          <a:xfrm>
            <a:off x="5310360" y="2781360"/>
            <a:ext cx="1287360" cy="133020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16"/>
          <p:cNvSpPr/>
          <p:nvPr/>
        </p:nvSpPr>
        <p:spPr>
          <a:xfrm>
            <a:off x="5799240" y="278748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m 18" descr=""/>
          <p:cNvPicPr/>
          <p:nvPr/>
        </p:nvPicPr>
        <p:blipFill>
          <a:blip r:embed="rId4"/>
          <a:stretch/>
        </p:blipFill>
        <p:spPr>
          <a:xfrm>
            <a:off x="2435400" y="2786040"/>
            <a:ext cx="1288800" cy="13302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19"/>
          <p:cNvSpPr/>
          <p:nvPr/>
        </p:nvSpPr>
        <p:spPr>
          <a:xfrm>
            <a:off x="2897280" y="279396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ET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aixaDeTexto 22"/>
          <p:cNvSpPr/>
          <p:nvPr/>
        </p:nvSpPr>
        <p:spPr>
          <a:xfrm rot="20242200">
            <a:off x="3687480" y="2704680"/>
            <a:ext cx="182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00000"/>
                </a:solidFill>
                <a:latin typeface="Montserrat"/>
              </a:rPr>
              <a:t>NORTEADOR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5" descr="Fundo preto com letras brancas&#10;&#10;Descrição gerada automaticamente com confiança média"/>
          <p:cNvPicPr/>
          <p:nvPr/>
        </p:nvPicPr>
        <p:blipFill>
          <a:blip r:embed="rId5">
            <a:biLevel thresh="50000"/>
          </a:blip>
          <a:stretch/>
        </p:blipFill>
        <p:spPr>
          <a:xfrm rot="870000">
            <a:off x="9352080" y="2074680"/>
            <a:ext cx="987480" cy="66492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7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Termo de Referência e o Estudo Técnico Prelimin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onector reto 10"/>
          <p:cNvSpPr/>
          <p:nvPr/>
        </p:nvSpPr>
        <p:spPr>
          <a:xfrm>
            <a:off x="0" y="673200"/>
            <a:ext cx="1219212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58800" y="1355760"/>
          <a:ext cx="10860120" cy="3476520"/>
        </p:xfrm>
        <a:graphic>
          <a:graphicData uri="http://schemas.openxmlformats.org/drawingml/2006/table">
            <a:tbl>
              <a:tblPr/>
              <a:tblGrid>
                <a:gridCol w="5392800"/>
                <a:gridCol w="5467320"/>
              </a:tblGrid>
              <a:tr h="48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Montserrat"/>
                        </a:rPr>
                        <a:t>PONTOS DE ATENÇÃO NOS CONTÉUDOS DO ETP NO 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specificação do Objet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Descreve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o objeto a ser contratado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 (solução definida pelo ETP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Descrição da solução (escolhida) como um todo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 Descreve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todos os elementos (bens, serviços e outros) necessári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 para, de forma integrada, gerar os resultados que atendam à necessidade da Administração Pública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Agrupamento de itens em lotes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Indica o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agrupamento dos itens da contratação específica em lotes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arcelamento ou não da contratação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 Indica se haverá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divisão da solução escolhida em partes distintas (itens, lotes, etapas, procedimentos, etc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CaixaDeTexto 2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TR e ET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onector reto 6"/>
          <p:cNvSpPr/>
          <p:nvPr/>
        </p:nvSpPr>
        <p:spPr>
          <a:xfrm>
            <a:off x="0" y="673200"/>
            <a:ext cx="1219212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662040" y="1363680"/>
          <a:ext cx="10860120" cy="4075200"/>
        </p:xfrm>
        <a:graphic>
          <a:graphicData uri="http://schemas.openxmlformats.org/drawingml/2006/table">
            <a:tbl>
              <a:tblPr/>
              <a:tblGrid>
                <a:gridCol w="5514840"/>
                <a:gridCol w="5345280"/>
              </a:tblGrid>
              <a:tr h="48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Montserrat"/>
                        </a:rPr>
                        <a:t>PONTOS DE ATENÇÃO NOS CONTÉUDOS DO ETP NO 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Justificativa da contrataçã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Apresenta a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motivação para contratação do obje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Descrição do problema a ser resolvido ou da necessidade apresentada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Descreve o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problema a ser resolvido ou a necessidade apresentad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Requisitos da contrataçã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lenca todos os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requisitos aplicáveis ao objeto a ser contratad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Requisitos da(s) </a:t>
                      </a:r>
                      <a:r>
                        <a:rPr b="1" lang="pt-BR" sz="1600" spc="-1" strike="noStrike" u="sng">
                          <a:solidFill>
                            <a:srgbClr val="000000"/>
                          </a:solidFill>
                          <a:uFillTx/>
                          <a:latin typeface="Montserrat"/>
                        </a:rPr>
                        <a:t>potencial(is)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 contratação(ões)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lenca todos os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requisitos necessários à solução do problema/necessidad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stimativa do valor da contratação: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Define o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valor de mercado do objeto a ser contrat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Estimativa de preços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Compara os </a:t>
                      </a:r>
                      <a:r>
                        <a:rPr b="1" lang="pt-BR" sz="1600" spc="-1" strike="noStrike">
                          <a:solidFill>
                            <a:srgbClr val="c00000"/>
                          </a:solidFill>
                          <a:latin typeface="Montserrat"/>
                        </a:rPr>
                        <a:t>valores das distintas alternativa identificada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; e deve considerar os custos diversos da solução (custo processuais administrativos, custos de pessoal, custos relacionados ao ciclo de vida do objeto, etc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CaixaDeTexto 2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TR e ET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ector reto 4"/>
          <p:cNvSpPr/>
          <p:nvPr/>
        </p:nvSpPr>
        <p:spPr>
          <a:xfrm>
            <a:off x="0" y="673200"/>
            <a:ext cx="1219212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m 17" descr="simbolo.png"/>
          <p:cNvPicPr/>
          <p:nvPr/>
        </p:nvPicPr>
        <p:blipFill>
          <a:blip r:embed="rId1"/>
          <a:srcRect l="0" t="0" r="50899" b="0"/>
          <a:stretch/>
        </p:blipFill>
        <p:spPr>
          <a:xfrm>
            <a:off x="11511000" y="5897520"/>
            <a:ext cx="681120" cy="9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679320" y="1579680"/>
          <a:ext cx="10860120" cy="4011480"/>
        </p:xfrm>
        <a:graphic>
          <a:graphicData uri="http://schemas.openxmlformats.org/drawingml/2006/table">
            <a:tbl>
              <a:tblPr/>
              <a:tblGrid>
                <a:gridCol w="5515200"/>
                <a:gridCol w="5344920"/>
              </a:tblGrid>
              <a:tr h="531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Montserrat"/>
                        </a:rPr>
                        <a:t>PRAZOS DURANTE O PROCES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Solicitação interna (Memorandos), ETP, TR, Solicitação Fornecimento, Contabilidade, Liberação Gab.Prefe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Indefi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Coleta, Edital, revisão jurídico, Registrar Edital (=Numer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Indefi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ubl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8 dias út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egão, negociação, analise de documentos, diligências (cada é 24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Indefi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Recurso e Contrarraz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3 dias úteis (ca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Análise jurídica, encerramento pregão, assinaturas inter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Montserrat"/>
                        </a:rPr>
                        <a:t>Prazo: Indefi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CaixaDeTexto 2"/>
          <p:cNvSpPr/>
          <p:nvPr/>
        </p:nvSpPr>
        <p:spPr>
          <a:xfrm>
            <a:off x="0" y="119160"/>
            <a:ext cx="1219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Montserrat"/>
                <a:ea typeface="Montserrat"/>
              </a:rPr>
              <a:t>PLANEJAME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ector reto 4"/>
          <p:cNvSpPr/>
          <p:nvPr/>
        </p:nvSpPr>
        <p:spPr>
          <a:xfrm>
            <a:off x="0" y="673200"/>
            <a:ext cx="12192120" cy="0"/>
          </a:xfrm>
          <a:prstGeom prst="line">
            <a:avLst/>
          </a:prstGeom>
          <a:ln w="6480">
            <a:solidFill>
              <a:srgbClr val="7a0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ixaDeTexto 6"/>
          <p:cNvSpPr/>
          <p:nvPr/>
        </p:nvSpPr>
        <p:spPr>
          <a:xfrm>
            <a:off x="708120" y="793800"/>
            <a:ext cx="69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x.: Compra de caneta azul (pregão eletrônic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06T16:33:59Z</dcterms:created>
  <dc:creator>Alanna Guias</dc:creator>
  <dc:description/>
  <dc:language>en-US</dc:language>
  <cp:lastModifiedBy>COMPRAS</cp:lastModifiedBy>
  <dcterms:modified xsi:type="dcterms:W3CDTF">2025-01-07T13:02:46Z</dcterms:modified>
  <cp:revision>46</cp:revision>
  <dc:subject/>
  <dc:title>Apresentação do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08D58FADB61F04EBBB4F355C06EFBED</vt:lpwstr>
  </property>
  <property fmtid="{D5CDD505-2E9C-101B-9397-08002B2CF9AE}" pid="3" name="MediaServiceImageTags">
    <vt:lpwstr/>
  </property>
  <property fmtid="{D5CDD505-2E9C-101B-9397-08002B2CF9AE}" pid="4" name="SharedWithUsers">
    <vt:lpwstr>21;#Ianka Stephanie R. C. Barros;#344;#Victor César Mascarenhas Brina de Medeiros;#330;#Virginia Bracarense Lopes</vt:lpwstr>
  </property>
  <property fmtid="{D5CDD505-2E9C-101B-9397-08002B2CF9AE}" pid="5" name="Status de liberação">
    <vt:lpwstr/>
  </property>
  <property fmtid="{D5CDD505-2E9C-101B-9397-08002B2CF9AE}" pid="6" name="TaxCatchAll">
    <vt:lpwstr/>
  </property>
  <property fmtid="{D5CDD505-2E9C-101B-9397-08002B2CF9AE}" pid="7" name="lcf76f155ced4ddcb4097134ff3c332f">
    <vt:lpwstr/>
  </property>
</Properties>
</file>